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3933720"/>
            <a:ext cx="5724360" cy="12240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669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ГУ им. А. Байтурсынова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6084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презентации: Резисторы, Конденсаторы, Трансформаторы, Полупроводниковые приборы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14560" y="1557000"/>
            <a:ext cx="3529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Конденсаторы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 схемах используются конденсаторы постоянной и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ременной емкост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(рис. 2) и подстроечные конденсаторы.В зависимости от вида диэлектрик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онденсаторы делятся на: воздушные, бумажные, слюдяные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ерамические, электролитические и др. К числу основных технических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Характеристик конденсаторов относятся: номинальная величина и класс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очности (табл3.), рабочее напряжение и температурная стабильность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пределяемая величиной температурного коэффициента емкости (ТКЕ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иболее часто используются постоянные конденсаторы следующих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ипов: бумажные — КБГ, МБГ; слюдяные — КСО, КСГ; керамические —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Т, КД; электролитические — КЭ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4560" y="1557000"/>
            <a:ext cx="3529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Конденсаторы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В последнее время появилось много различных типов малогабаритных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конденсаторов, к числу которых относятся конденсаторы типов КЛС, КД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КПС, СГМ, БМ, ПМ, ФТ, электролитические ЭТ, ЭМ, ЭТО и др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3141360"/>
            <a:ext cx="5761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Трансформаторы</a:t>
            </a:r>
            <a:endParaRPr b="0" lang="en-US" sz="4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0" y="1557000"/>
            <a:ext cx="44276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Трансформаторы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Трансформаторы   (рис. 3),   используемые   в электронике, можн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азделить на три типа: низкочастотные, работающие в области до 20 кГц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высокочастотные и импульсны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Низкочастотные используются как силовые, входные, выходные 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межкаскадные. Высокочастотные и импульсные используются 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высокочастотных и импульсных схемах как трансформаторы связ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Возможны также и другие применения трансформаторов. Силовы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трансформаторы могут быть низковольтными для питания накальных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цепей (тип ТН), высоковольтными — для питания анодов (тип ТА) 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комбинированными (тип ТНА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0" y="1557000"/>
            <a:ext cx="44276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Трансформаторы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 конструкции сердечников трансформаторы делятся на три вида: с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лоским, с тороидальным и с разрезным сердечником из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ленточной стал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лоские сердечники собираются из пластин 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Ш-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-, Г-образно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формы. Катушки для трансформаторов с плоским сердечнико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матываются на каркас, изготовленный и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t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ессшпана, гетинакса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екстолита и т. д.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Укладка провода в катушку производится рядами ил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навал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16000" y="1557000"/>
            <a:ext cx="44276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Трансформаторы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рядовой намотке между рядами укладываются изолирующи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кладки из ленточных изолирующих материал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ороидальные трансформаторы наматываются на предварительн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золированные тороидальные сердечники (табл. 5) из ленточной стал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Э310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6360" y="2997360"/>
            <a:ext cx="3960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Tahoma"/>
              </a:rPr>
              <a:t>Резисторы</a:t>
            </a:r>
            <a:endParaRPr b="0" lang="en-US" sz="4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16000" y="1557000"/>
            <a:ext cx="44276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Трансформаторы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В настоящее время при серийном изготовлении трансформаторо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широко используют разрезные ленточные сердечники (трансформатор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типов ТН, ТНА, ТА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172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иоды. Химически чистый кристалл вещества находится в электрическо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вновесии. Если же в него ввести ничтожное количество посторонне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меси, положение резко меняется. Так, если в четырехвалентны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германий ввести добавку пятивалентной сурьмы, то сурьма отдает сво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электрон с внешней оболочки, становясь положительным ионом, а 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ристалле создается избыток электронов. Такая система имее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электронную или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-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димость. Вещество, придающее систем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димость, называют донором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Если к тому же нейтральному германию добавить трехвалентный индий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о он стремится забрать себе четвертый электрон от окружающих атомо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германия, создавая у них недостаток электронов или «дырки». Сам ж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ндий становится отрицательным ионом. Такие системы называютс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истемами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роводимостью, а вещества, создающие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-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димости –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кцепторам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Если присоединить вещество с р-проводимостью к веществу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-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димостью, то под действием электростатических сил электрон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ещества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роводимостью будут отталкиваться от отрицательных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онов вещества с р-проводимостью, а дырки вещества с р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димостью — от положительных ионов вещества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роводимостью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аким образом, на границе двух веществ образуется потенциальны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арьер по отношению к «дыркам» со стороны вещества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-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димостью и по отношению к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«дыркам» со стороны вещества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димостью (рис. 4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ам же пограничный слой электрически нейтрален, т. е. ег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уммарный заряд равен нулю. Если же к веществу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роводимостью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дключить отрицательный полюс источника питания, а к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еществу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c p-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димостью подключить положительный полюс, то электроны под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ействием отталкивающих сил отрицательного полюса буду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ремещаться в сторону положительного полюса, преодолева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равнительно небольшой потенциальный барьер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едостаток электронов в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части восполняется источником пита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аким образом, в этой системе протекает ток и такая полярност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зывается прямой, а ток — прямым током. Если изменить полярност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сточника питания, то система оказывается под обратным напряжение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этом электроны участка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роводимостью перемещаются 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ложительному полюсу,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 «дырки» — к отрицательному. Таким образом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через пограничный слой основные носители зарядов не проходят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екоторый обратный ток возникает за счет того, что «дырки», имеющиес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области, и электроны, имеющиеся в р-области и не являющиеся та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сновными носителями зарядов, проходят навстречу друг другу через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запирающий слой. Но если обратное напряжение превысит определенно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значение (так называемое максимальное обратное напряжение), т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исходит пробой пограничного слоя и обратный ток резко возрастает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ледовательно, если не превышать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U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.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, то такая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лупроводниковая система выполняет выпрямительные функции 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зывается полупроводниковым диод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войства диодов определяются их вольтамперными характеристикам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(рис. 5), т. е. зависимостью пропускаемого тока от приложенног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пряжения. Участок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OA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ответствует включению диода в прямо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правлении, участок 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ОВ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— в обратном. Вольтамперная характеристик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иода зависит от температуры окружающей среды. С увеличение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емпературы увеличиваются прямой и обратный токи и уменьшаетс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аксимальное обратное напряжение (рис. 6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ак, с увеличением температуры на 1° падение напряжения на диоде 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ямом направлении уменьшается примерно на 2 мВ. При увеличен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емпературы на каж­дые 10° обратный ток увеличивается в 2 раза дл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германиевых и в 2,5 раза для кремниевых диодов. Свойства диода 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аждой данной точке характеристики определяются динамически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противлением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д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dU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dl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инамическое сопротивление в прямо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правлении сильно меняется с изменением тока. Приближенно можн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читать, что при температуре 20 °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 = 26/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, где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 в мА, а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 в 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лупроводниковые диоды различаются по применению и конструкци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Выпрямительные диоды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едназначены для использования 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ыпрямительных схемах низкой частоты (50— 2000 Гц). По конструкции —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это плоскостные диоды. Различаются выпрямительные диоды п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аксимальному напряжению и току (табл. 6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В настоящее время имеются кремниевые диоды с обратным напряжение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до 2000 В, германиевые диоды, допускающие плотность тока до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1000 А/см2 и мощностью в несколько киловатт. С увеличением частот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коэффициент полезного действия выпрямительных диодов ухудшаетс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Поэтому при детектировании высокочастотных сигналов используютс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точечные диоды (табл. 7). Высокочастотные диоды могут такж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использоваться для модуляции и других нелинейных преобразовани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электрических сигнал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В импульсных схемах в качестве ключевых элементов приме­няются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импульсные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иоды, имеющие длительность переходных процессов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орядка долей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микросекунд. Импульсные диоды характеризуются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ледующими величинами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1) Временем установления прямого сопротивления, т. е.промежутком времен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между началом импульса прямого тока и тем моментом, когда падение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апряжения на диоде уменьшается до значения 1,2 </a:t>
            </a: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ном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2) Максимальным импульсным сопротивлением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имп.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имп.пр.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max/I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имп.пр.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max;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3) Временем восстановления обратного сопротивления, т. е. промежутком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времени между подачей запирающего импульса и тем моментом, когда обратный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ток через диод достигнет заданного уровня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прохождении по диоду прямого тока в его базе накапливается заряд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оторый при подаче обратного напряжения дает бросок обратного ток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ремя рассасывания этого тока и определяет т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Осст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мпульсные диоды имеют небольшую собственную емко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ля стабилизации напряжения используются кремниевые стабилитрон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(табл. 8), т. е. кремниевые диоды, работающие на обратных ветвях воль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мперной характеристики. В схемах стабилитроны обозначаются, как эт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указано на рис. 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 усилителях, генераторах и переключающих схемах используютс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уннельные диоды (рис. 8). На вольтамперной характеристик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уннельных диодов имеется участок с отрицательным динамически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противлением (рис. 9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аким образом, если превысить ток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, то диод скачком переходит из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ложения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в положение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последующем уменьшении тока до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иод переходит скачком в состояние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ыстродействие переключающих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хем с туннельными диодами определяется т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ер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. е. времене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реключения от напряжения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о напряжения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 ключевых схемах, особенно в схемах регулируемого привода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спользуются переключающие диоды-тиристоры (рис. 10, табл. 9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Вольтамперная характеристика их представлена на рис 11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Участок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OA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ответствует выключенному состоянию диода. Параметр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коя определяются током утечки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ут и прямым напряжением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U/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.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увеличении напряжения до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кл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тановится равным нулю, 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бочая точка неустойчивой. Ток резко увеличивается. Для поддержани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иода во включен­ном состоянии необходимо, чтобы по диоду проходи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ок больший чем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ыкл. Для неуправляемых диодов-динисторов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к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стоянно, в управляемых тиристорах оно зависит от величины импульса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редаваемого на специальный электрод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Запирание диода происходит при перемене полярности выпрямляемог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пряжения. Наибольшая частота переключений определяется времене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ключения Твкл, т. е. временем между подачей импульса вклю-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чения и тем моментом, когда напряжение на диоде уменьшится д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заданного уровня, и временем выключения Твыкл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. е. промежутко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ежду моментом подачи запирающего напряжения и моментом, когда то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остигнет величины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ут.пр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роме вышеперечисленных диодов имеется еще один вид — та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зываемые 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варикапы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(рис. 12). Это диоды, емкость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p-n-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реход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оторых можно изменять в зависимости от приложенного напряжения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сновной параметр варикапа — номинальная емкость Сном пр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оминальном напряжении, а также максимальная и минимальная емкост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максимальном и минимальном напряжениях смещения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упроводниковые приб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ачество варикапа определяется добротностью, т. е. отношением 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Хс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лному сопротивлению на заданной частоте. Емкость варикапа зависи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т температуры и определяется температурным коэффициентом емкост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172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Если в монокристалле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роводимостыо создать область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-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димостью или в монокристалле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роводимостыо создат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бласть с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роводимостью так, что на границах этих областей с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онокристаллом создадутся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-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ереходы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(рис. 13), то такие систем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лучат свойства триода и будут называться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-p-n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-n-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ранзисторами (рис. 14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ссмотрим работу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-n-p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транзистора. Подключим внешний источни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пряжения к крайним областям и назовем ту обла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 которой подсоединен плюс, эмиттером, а другую — коллекторо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(рис.15). Среднюю же область назовем базой. Таким образом, к эмиттеру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ложено положительное напряжение, а к коллектору — отрицательное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91280" y="1341360"/>
            <a:ext cx="29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ahoma"/>
              </a:rPr>
              <a:t>Резисторы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 схемах автоматики применяется значительное количество резисторов как постоянных по величине, так и переменных (рис. 1). В зависимости от материала токопроводящей части они могут быть проволочными и непроволочными. Проволочные сопротивления используются тогда, когда необходимо применение резисторов с большой мощностью рассеивания или нужна высокая точность, температурная стойкость. Температурный коэффициент сопротивления (ТКС) для проволочных резисторов мал и им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енебрегают. Вместе с тем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волочные резисторы имеют высокий уровень собственных шумов, так как по своей конструкции все они являются небольшими катушками индуктивности, внутри которых находится противо Э.Д.С поме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такой схеме по системе ток не пойдет, так как, хотя переход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эмиттер— база находится под прямым напряжением, переход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аза — коллектор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под обратным. Включим между базой и эмиттеро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ополнительный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сточник питания так, чтобы на базе был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трицательное напряжение. В этом случае по переходу эмиттер — баз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йдет ток, пропорциональный приложенному напряжению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б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«Дырки» из эмиттера начнут переходить в базу. Но баз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ыполняется очень тонкой, так что площадь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-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ереход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ного больше площади поверхности, с которой отводятс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«дырки». Повышенная концентрация «дырок» у отводящего электрод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здает объемный отталкивающий заряд и большинство «дырок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чинает переходить через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-p-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реход в коллектор под действие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трицательного напряжения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Uk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бразуя коллекторный ток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. Меня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еличину и напряжения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б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ы будем менять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. В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n-p-n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транзисторах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блюдается подобная картина, только полярность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Uk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б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братна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зличают три схемы включения транзисторов (рис. 16). При включен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ранзистора по схеме с общим эмиттером входное напряжение подаетс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ежду базой и эмиттером, а выходное снимается между коллектором 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эмиттером. При этом сдвиг фаз между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ых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х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вен 180°. Входное 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ыходное сопротивления при этом отличаются не очень сильно, чт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опускает согласование нескольких ступене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Безымянный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включении по схеме с общей базой входной сигнал подается между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эмиттером и базой, а выходной — между коллектором и базой, и сдвиг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фаз между ними равен нулю. Особенность такой схемы — небольшо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ходное (около 10 Ом) и большое выходное (несколько сотен килоом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против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включении по схеме с общим коллектором входной сигнал подаетс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ежду базой и коллектором, а выходной снимается между эмиттером 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оллектором. Эта схема обладает высоким входным и низким выходны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противлениям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 схемах с общей базой после цифр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тавится буква б, в схемах с общим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эмиттером — э. Перевод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-параметров в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араметры Т-образных схем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существляется по следующим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формулам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еличины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параметров измеряются, как правило, на низкой частот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(50—1000 Гц). На высокой частоте </a:t>
            </a:r>
            <a:r>
              <a:rPr b="0" lang="el-GR" sz="2000" spc="-1" strike="noStrike">
                <a:solidFill>
                  <a:srgbClr val="990033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990033"/>
                </a:solidFill>
                <a:latin typeface="Arial"/>
                <a:ea typeface="Arial"/>
              </a:rPr>
              <a:t>β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становятся комплексным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числами, что означает появление фазового сдвиг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ля практических расчетов используют в основном две характеристик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ранзистора: входную, т. е. зависимость входного тока от напряжени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хода при постоянном значении выходного напряжения, и выходную, т. 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зависимость выходного тока от выходного напряжения при постоянно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значении входного тока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этом чаще всего используют характеристик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ля схем с общим эмиттером (рис. 18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повышении температуры входная характеристика сдвигается 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торону больших токов, так как сопротивление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p-n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-пе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еход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уменьшается. При уменьшении температуры она сдвигается в сторону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еньших токов (рис. 19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расчете транзисторных схем необходимо учитывать неуправляемы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оки транзистора, к которым относятся обратный, ток коллекторног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рехода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. о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отключенном эмиттере, обратный ток эмиттерног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рехода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. о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отключенном коллекторе и начальный ток коллектор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. н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замкнутой на эмиттер баз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91280" y="1341360"/>
            <a:ext cx="29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ahoma"/>
              </a:rPr>
              <a:t>Резисторы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В настоящее время используют постоянные проволочные резистор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Э, ПЭВ, ПЭВР, ПТ и др., большинство из которых выдерживае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изменение температуры от - 60 до +150°С и влажности до 98% (пр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температуре 20±5°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),и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еременные проволочные резисторы марки ПП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различных модификаций. Непроволочные резисторы имеют значительно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больший ТКС (где ТКС = </a:t>
            </a: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AR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RAt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—порядка 10 -3 1/град, но почт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овершенно не имеют собственных шумов (1—5 мкВ), что особенно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важно в высокочастотных схемах. Наиболее распространенными типам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проволочных постоянных резисторов являются ВС, МЛТ, УЛИ, КЛМ 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р. В настоящее время наиболее широко используются резисторы МЛТ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Типы переменных непроволочных резисторов — СП, СПО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Если транзистор работает в режиме, при котором токи и напряжени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ежду выводами его меняются в широких пределах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о используется ряд других параметров. Например, статически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оэффициент усиления по току </a:t>
            </a:r>
            <a:r>
              <a:rPr b="0" lang="el-GR" sz="2000" spc="-1" strike="noStrike">
                <a:solidFill>
                  <a:srgbClr val="990033"/>
                </a:solidFill>
                <a:latin typeface="Arial"/>
                <a:ea typeface="Arial"/>
              </a:rPr>
              <a:t>β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т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= (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 —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.о)/(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 —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.о)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, статическа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рутизна прямой передачи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т — отношение постоянного ток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оллектора к постоянному напряжению на входе транзистора, и ряд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руги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ранзисторы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о конструкции различают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плоскостные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точечные транзисторы.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оследние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используют в высокочастотных схемах. Для силовых цепей применяютс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лоскостные транзисторы. Транзисторы, изготовленные способом диффузии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азываются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дрейфовыми.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сновными материалами для изготовле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транзисторов, так же как и диодов, являются германий и кремн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собым видом полупроводниковых приборов является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полупроводниковый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тетрод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(рис. 20). В тетродах к базе подводится дополнительный потенциал с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ротивоположной стороны от основного. Этот потенциал прижимает поток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сновных носителей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зарядов к базовому выводу, что уменьшает сопротивление области базы, так как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ее основная часть располагается вблизи источника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б.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Благодаря уменьшению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опротивления базы уменьшается роль емкости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p-n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-перехода, что позволяе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увеличить допустимую частоту усиливаемого сигнала. В тетродах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ополнительный электрод, имеющий собственную проводимость, обозначаетс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буквой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172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Термисторы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ермисторы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Одним из видов полупроводниковых приборов являются термистор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(табл. 10), т. е. резисторы, омическое сопротивление которых зависит о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температуры. По сравнению с проволочными терморезисторам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термисторы обладают в 8 - 10 раз большим температурны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коэффициентом и малой электрической проводимостью. Высоко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собственное начальное сопротивление позволяет не учитыват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сопротивление соединительных проводов в измерительных схема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ермисторы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огда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Roo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пределяются по формулам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0" y="378936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95280" y="155700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ермисторы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расчетах необходимо учитывать, что протекание тока через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ермистор вызывает его нагревание, что вносит известные искаж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этому допустимый ток через термистор при данном напряжен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ходят из вольтамперной характеристики. Вольтамперна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характеристика строится на основании равенства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UI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B0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Тт —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Т0, Т0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— температура окружающей среды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Тт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— температура термистор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(она из-за собственного нагрева будет несколько выше, чем Т0),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—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оэффициент рассеяния тепла рабочего тела термистора. Задава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зличные значения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U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 определенных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Т0, Тт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ходи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ответствующий им ток термисто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0" y="3714480"/>
            <a:ext cx="608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000000"/>
                </a:solidFill>
                <a:latin typeface="Arial"/>
              </a:rPr>
              <a:t>Конец !!!</a:t>
            </a:r>
            <a:endParaRPr b="0" lang="en-US" sz="9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91280" y="1341360"/>
            <a:ext cx="29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ahoma"/>
              </a:rPr>
              <a:t>Резисторы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Широко применяются также малогабаритные непроволочные постоянны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езисторы типа МЛТ—0,25, МТ—0,125 и МТ—0,25, а также резистор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ипа УЛМ, КИМ и тепловлагостойкие объемные ТВО. В малогабаритно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ппаратуре используются и проволочные резисторы: постоянные маро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ТМН, ПТМК, ПТММ и переменные СПО - 0,5  СП5 - 1 и др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яды номинальных величии постоянных резисторов приведены в табл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1,2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0" y="3141360"/>
            <a:ext cx="4969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Конденсаторы</a:t>
            </a:r>
            <a:endParaRPr b="0" lang="en-US" sz="4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5:29:28Z</dcterms:created>
  <dc:creator>Admin</dc:creator>
  <dc:description/>
  <dc:language>en-US</dc:language>
  <cp:lastModifiedBy>1a214</cp:lastModifiedBy>
  <dcterms:modified xsi:type="dcterms:W3CDTF">2010-05-18T07:36:46Z</dcterms:modified>
  <cp:revision>16</cp:revision>
  <dc:subject/>
  <dc:title>Name of presentation</dc:title>
</cp:coreProperties>
</file>